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92C-67EC-408D-B568-47C3040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8CA-DBDF-478B-B915-044F19D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9A2-D372-4DEA-85C0-8251C22A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6EC-6773-49E5-B19C-F4F0334F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C2D-BBCD-48E7-812A-7DFCFAD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AA2-5AC9-45CD-9E52-2A9FF7B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4A3-CFB8-4A5A-A3C7-B5E4D2DB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C96-B3DA-44C7-B179-1BCD6E9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925-E2FB-4476-9168-B46FC4FC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9E1-BF03-40BE-92C7-3886F50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7F3-360F-4A5A-893F-47B4A08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EDF-B484-490F-96BB-5D73873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CAC-FAAB-4E34-8474-2BDC1712D3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380880"/>
          <a:ext cx="8381880" cy="6188040"/>
        </p:xfrm>
        <a:graphic>
          <a:graphicData uri="http://schemas.openxmlformats.org/drawingml/2006/table">
            <a:tbl>
              <a:tblPr/>
              <a:tblGrid>
                <a:gridCol w="4267080"/>
                <a:gridCol w="2286000"/>
                <a:gridCol w="1828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ymb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l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etic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  or  E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vitational Potential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E or E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gra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12-04-30T22:31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